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238-3A28-416B-B82E-8E5E6A9B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368-7EAA-48C7-AF14-4F58FA3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A8A-9813-4238-8D29-15059276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8AB-F204-4332-A320-68941722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017-8360-4BCB-BC34-10C46DE3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458-C5CF-4416-83D7-48AD09AC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E62-71F1-4A89-BE0A-CCAE935B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CC9-9A41-4794-A386-7C2332C9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D7E-F9DA-4E11-A30C-B959F326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94E-A888-4705-8F13-1C842B6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0CC-79A1-4B7C-B7AB-00B5A9B9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287-8E28-40EC-AC2D-FCE6715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06D-3DD3-4138-950A-18DC0CE6D3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85800"/>
            <a:ext cx="12952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924680" y="5791320"/>
            <a:ext cx="12193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1600200"/>
          <a:ext cx="863100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52320"/>
                <a:gridCol w="1878120"/>
                <a:gridCol w="1917720"/>
                <a:gridCol w="16984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Group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Problem Perce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ole / Man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40"/>
          <p:cNvSpPr/>
          <p:nvPr/>
        </p:nvSpPr>
        <p:spPr>
          <a:xfrm>
            <a:off x="68580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371600" y="2286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dentify four stakeholders involved in the Kokoda Track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23:18:40Z</dcterms:created>
  <dc:creator>Internal Administrator</dc:creator>
  <dc:description>&amp;lt;p&amp;gt;Group(s) Interests Problem Perception Resources Role / Mandate 1. 2. 3. 4.  EXERCISE Identify four stakeholders involved in the Kokoda Track tour   &amp;lt;/p&amp;gt;</dc:description>
  <dc:language>en-US</dc:language>
  <cp:lastModifiedBy>Internal Administrator</cp:lastModifiedBy>
  <dcterms:modified xsi:type="dcterms:W3CDTF">2010-09-27T23:34:46Z</dcterms:modified>
  <cp:revision>0</cp:revision>
  <dc:subject>&amp;lt;p&amp;gt;Group(s) Interests Problem Perception Resources Role / Mandate 1. 2. 3. 4.  EXERCISE Identify four stakeholders involved in the Kokoda Track tour   &amp;lt;/p&amp;gt;</dc:subject>
  <dc:title>Exercise 1a. Stakeholder Exerci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Address">
    <vt:lpwstr/>
  </property>
  <property fmtid="{D5CDD505-2E9C-101B-9397-08002B2CF9AE}" pid="3" name="EktCmsPath">
    <vt:lpwstr>&amp;lt;p&amp;gt;Group(s) Interests Problem Perception Resources Role / Mandate 1. 2. 3. 4.  EXERCISE Identify four stakeholders involved in the Kokoda Track tour   &amp;lt;/p&amp;gt;</vt:lpwstr>
  </property>
  <property fmtid="{D5CDD505-2E9C-101B-9397-08002B2CF9AE}" pid="4" name="EktCmsSize">
    <vt:r8>157184</vt:r8>
  </property>
  <property fmtid="{D5CDD505-2E9C-101B-9397-08002B2CF9AE}" pid="5" name="EktContentLanguage">
    <vt:r8>2057</vt:r8>
  </property>
  <property fmtid="{D5CDD505-2E9C-101B-9397-08002B2CF9AE}" pid="6" name="EktContentSubType">
    <vt:r8>0</vt:r8>
  </property>
  <property fmtid="{D5CDD505-2E9C-101B-9397-08002B2CF9AE}" pid="7" name="EktContentType">
    <vt:r8>101</vt:r8>
  </property>
  <property fmtid="{D5CDD505-2E9C-101B-9397-08002B2CF9AE}" pid="8" name="EktDateCreated">
    <vt:filetime>2011-03-08T13:07:41Z</vt:filetime>
  </property>
  <property fmtid="{D5CDD505-2E9C-101B-9397-08002B2CF9AE}" pid="9" name="EktDateModified">
    <vt:filetime>2011-12-20T07:12:46Z</vt:filetime>
  </property>
  <property fmtid="{D5CDD505-2E9C-101B-9397-08002B2CF9AE}" pid="10" name="EktDisabledTaxCategory">
    <vt:lpwstr/>
  </property>
  <property fmtid="{D5CDD505-2E9C-101B-9397-08002B2CF9AE}" pid="11" name="EktEDescription">
    <vt:lpwstr>Summary &amp;lt;p&amp;gt;Group(s) Interests Problem Perception Resources Role / Mandate 1. 2. 3. 4.  EXERCISE Identify four stakeholders involved in the Kokoda Track tour   &amp;lt;/p&amp;gt;</vt:lpwstr>
  </property>
  <property fmtid="{D5CDD505-2E9C-101B-9397-08002B2CF9AE}" pid="12" name="EktEventTopic">
    <vt:lpwstr/>
  </property>
  <property fmtid="{D5CDD505-2E9C-101B-9397-08002B2CF9AE}" pid="13" name="EktEventWebsite">
    <vt:lpwstr/>
  </property>
  <property fmtid="{D5CDD505-2E9C-101B-9397-08002B2CF9AE}" pid="14" name="EktExpiryType">
    <vt:r8>1</vt:r8>
  </property>
  <property fmtid="{D5CDD505-2E9C-101B-9397-08002B2CF9AE}" pid="15" name="EktFolderName">
    <vt:lpwstr/>
  </property>
  <property fmtid="{D5CDD505-2E9C-101B-9397-08002B2CF9AE}" pid="16" name="EktIsTranslated">
    <vt:bool>1</vt:bool>
  </property>
  <property fmtid="{D5CDD505-2E9C-101B-9397-08002B2CF9AE}" pid="17" name="EktQuickLink">
    <vt:lpwstr>://www.intracen.org/DownloadAsset.aspx?id=32446</vt:lpwstr>
  </property>
  <property fmtid="{D5CDD505-2E9C-101B-9397-08002B2CF9AE}" pid="18" name="EktRegistrationLink">
    <vt:lpwstr/>
  </property>
  <property fmtid="{D5CDD505-2E9C-101B-9397-08002B2CF9AE}" pid="19" name="EktSearchable">
    <vt:r8>1</vt:r8>
  </property>
  <property fmtid="{D5CDD505-2E9C-101B-9397-08002B2CF9AE}" pid="20" name="EktSourceUrl">
    <vt:lpwstr/>
  </property>
  <property fmtid="{D5CDD505-2E9C-101B-9397-08002B2CF9AE}" pid="21" name="EktTaxCategory">
    <vt:lpwstr/>
  </property>
  <property fmtid="{D5CDD505-2E9C-101B-9397-08002B2CF9AE}" pid="22" name="ekttaxonomyenabled">
    <vt:r8>1</vt:r8>
  </property>
</Properties>
</file>