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68F-799C-4CD2-AAC7-F00FB9E0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FC6-98BD-4952-A398-3D4D0705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C54-60B7-4C1E-A445-9DD4F84F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0FC-8B54-49BC-AF01-C0D7C63A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3EE-FFDB-4FFC-AF25-43F6E136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816-24C1-4C58-AD66-7441B76B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AFE-5AF1-4E88-B7C7-6DF56620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F32-331C-4998-8BAB-F145EDA5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F96-9149-4EB2-83EF-50086271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D38-B349-4296-A95A-43E9FEDB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C5A-909D-47BC-9C95-7CFAABEF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56B-BB19-4833-93A6-8236D5E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1CB6-2F40-4E50-B49A-3BAF154BE9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685800"/>
            <a:ext cx="129528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924680" y="5791320"/>
            <a:ext cx="12193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0920" y="1600200"/>
          <a:ext cx="8631000" cy="4237200"/>
        </p:xfrm>
        <a:graphic>
          <a:graphicData uri="http://schemas.openxmlformats.org/drawingml/2006/table">
            <a:tbl>
              <a:tblPr/>
              <a:tblGrid>
                <a:gridCol w="1584360"/>
                <a:gridCol w="1552320"/>
                <a:gridCol w="1878120"/>
                <a:gridCol w="1917720"/>
                <a:gridCol w="16984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Group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Inte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Problem Perce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Role / Man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40"/>
          <p:cNvSpPr/>
          <p:nvPr/>
        </p:nvSpPr>
        <p:spPr>
          <a:xfrm>
            <a:off x="685800" y="762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371600" y="2286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dentify four stakeholders involved in the Kokoda Track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23:18:40Z</dcterms:created>
  <dc:creator>Internal Administrator</dc:creator>
  <dc:description>&amp;lt;p&amp;gt;Group(s) Interests Problem Perception Resources Role / Mandate 1. 2. 3. 4.  EXERCISE Identify four stakeholders involved in the Kokoda Track tour   &amp;lt;/p&amp;gt;</dc:description>
  <dc:language>en-US</dc:language>
  <cp:lastModifiedBy>Internal Administrator</cp:lastModifiedBy>
  <dcterms:modified xsi:type="dcterms:W3CDTF">2010-09-27T23:34:46Z</dcterms:modified>
  <cp:revision>0</cp:revision>
  <dc:subject>&amp;lt;p&amp;gt;Group(s) Interests Problem Perception Resources Role / Mandate 1. 2. 3. 4.  EXERCISE Identify four stakeholders involved in the Kokoda Track tour   &amp;lt;/p&amp;gt;</dc:subject>
  <dc:title>Exercise 1a. Stakeholder Exerci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Address">
    <vt:lpwstr/>
  </property>
  <property fmtid="{D5CDD505-2E9C-101B-9397-08002B2CF9AE}" pid="3" name="EktCmsPath">
    <vt:lpwstr>&amp;lt;p&amp;gt;Group(s) Interests Problem Perception Resources Role / Mandate 1. 2. 3. 4.  EXERCISE Identify four stakeholders involved in the Kokoda Track tour   &amp;lt;/p&amp;gt;</vt:lpwstr>
  </property>
  <property fmtid="{D5CDD505-2E9C-101B-9397-08002B2CF9AE}" pid="4" name="EktCmsSize">
    <vt:r8>157184</vt:r8>
  </property>
  <property fmtid="{D5CDD505-2E9C-101B-9397-08002B2CF9AE}" pid="5" name="EktContentLanguage">
    <vt:r8>2057</vt:r8>
  </property>
  <property fmtid="{D5CDD505-2E9C-101B-9397-08002B2CF9AE}" pid="6" name="EktContentSubType">
    <vt:r8>0</vt:r8>
  </property>
  <property fmtid="{D5CDD505-2E9C-101B-9397-08002B2CF9AE}" pid="7" name="EktContentType">
    <vt:r8>101</vt:r8>
  </property>
  <property fmtid="{D5CDD505-2E9C-101B-9397-08002B2CF9AE}" pid="8" name="EktDateCreated">
    <vt:filetime>2011-03-08T13:07:41Z</vt:filetime>
  </property>
  <property fmtid="{D5CDD505-2E9C-101B-9397-08002B2CF9AE}" pid="9" name="EktDateModified">
    <vt:filetime>2011-12-20T07:12:46Z</vt:filetime>
  </property>
  <property fmtid="{D5CDD505-2E9C-101B-9397-08002B2CF9AE}" pid="10" name="EktDisabledTaxCategory">
    <vt:lpwstr/>
  </property>
  <property fmtid="{D5CDD505-2E9C-101B-9397-08002B2CF9AE}" pid="11" name="EktEDescription">
    <vt:lpwstr>Summary &amp;lt;p&amp;gt;Group(s) Interests Problem Perception Resources Role / Mandate 1. 2. 3. 4.  EXERCISE Identify four stakeholders involved in the Kokoda Track tour   &amp;lt;/p&amp;gt;</vt:lpwstr>
  </property>
  <property fmtid="{D5CDD505-2E9C-101B-9397-08002B2CF9AE}" pid="12" name="EktEventTopic">
    <vt:lpwstr/>
  </property>
  <property fmtid="{D5CDD505-2E9C-101B-9397-08002B2CF9AE}" pid="13" name="EktEventWebsite">
    <vt:lpwstr/>
  </property>
  <property fmtid="{D5CDD505-2E9C-101B-9397-08002B2CF9AE}" pid="14" name="EktExpiryType">
    <vt:r8>1</vt:r8>
  </property>
  <property fmtid="{D5CDD505-2E9C-101B-9397-08002B2CF9AE}" pid="15" name="EktFolderName">
    <vt:lpwstr/>
  </property>
  <property fmtid="{D5CDD505-2E9C-101B-9397-08002B2CF9AE}" pid="16" name="EktIsTranslated">
    <vt:bool>1</vt:bool>
  </property>
  <property fmtid="{D5CDD505-2E9C-101B-9397-08002B2CF9AE}" pid="17" name="EktQuickLink">
    <vt:lpwstr>://www.intracen.org/DownloadAsset.aspx?id=32446</vt:lpwstr>
  </property>
  <property fmtid="{D5CDD505-2E9C-101B-9397-08002B2CF9AE}" pid="18" name="EktRegistrationLink">
    <vt:lpwstr/>
  </property>
  <property fmtid="{D5CDD505-2E9C-101B-9397-08002B2CF9AE}" pid="19" name="EktSearchable">
    <vt:r8>1</vt:r8>
  </property>
  <property fmtid="{D5CDD505-2E9C-101B-9397-08002B2CF9AE}" pid="20" name="EktSourceUrl">
    <vt:lpwstr/>
  </property>
  <property fmtid="{D5CDD505-2E9C-101B-9397-08002B2CF9AE}" pid="21" name="EktTaxCategory">
    <vt:lpwstr/>
  </property>
  <property fmtid="{D5CDD505-2E9C-101B-9397-08002B2CF9AE}" pid="22" name="ekttaxonomyenabled">
    <vt:r8>1</vt:r8>
  </property>
</Properties>
</file>