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FC7A-7713-45DC-9884-5B9C0E9FEC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4DA0-9381-4AFD-A6BF-9BBAC97C0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C7CD-4479-4A05-A8D1-3F5DC4CB2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0C07-9ABB-4D81-BEEF-B42891C04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CD4-6A5A-4E38-9193-A24A4847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203-86A0-4F84-AECB-2C3B65D5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7A7-A848-4210-B4D7-AA7B8E9F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D2E-A281-40B2-B020-00BEEA93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925-3F0B-4D1B-AB1A-A6284DC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6D76-52EA-4BE4-AE65-2E4DEB73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B907-DE44-4A1F-BC3A-0272B2B9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F31A-2198-45CD-9D65-395124E0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0F85-D886-4655-918A-C97AAF33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3E0A-1E57-43AA-AE9E-8108FCF2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445-5A8E-4943-B247-48EA2B0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91E8-4F8F-4CD4-BD66-A2ED413C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29CC-604B-46D0-943F-1D582D3E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581B-1945-4162-8F62-5DB3B9D0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03F0-33A0-47AA-A481-3E2E2D16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B24A-1B2B-40EB-8735-887DB338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78CD-91AA-4A11-B9C9-4814D1A0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8147-465E-405D-91C4-B7B3550C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D78-05EE-4C39-BFC7-B03F1950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04A-4910-4EB9-BF9C-78E3D5B1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855-6C3B-416B-9133-9D97BD7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563-200B-4B77-9E6B-AB83258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57A-1DCE-4D55-96C1-DF10B0AE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9EE-1432-4910-80EF-75275E3C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1a"/>
          <p:cNvPicPr/>
          <p:nvPr/>
        </p:nvPicPr>
        <p:blipFill>
          <a:blip r:embed="rId2"/>
          <a:srcRect l="0" t="2064" r="0" b="0"/>
          <a:stretch/>
        </p:blipFill>
        <p:spPr>
          <a:xfrm>
            <a:off x="0" y="0"/>
            <a:ext cx="2057400" cy="199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66CC-0329-4C9D-8018-C9D60A4532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logo1a"/>
          <p:cNvPicPr/>
          <p:nvPr/>
        </p:nvPicPr>
        <p:blipFill>
          <a:blip r:embed="rId2"/>
          <a:srcRect l="4256" t="6216" r="0" b="0"/>
          <a:stretch/>
        </p:blipFill>
        <p:spPr>
          <a:xfrm>
            <a:off x="0" y="0"/>
            <a:ext cx="4724280" cy="4592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logo1a"/>
          <p:cNvPicPr/>
          <p:nvPr/>
        </p:nvPicPr>
        <p:blipFill>
          <a:blip r:embed="rId2"/>
          <a:srcRect l="0" t="2064" r="0" b="0"/>
          <a:stretch/>
        </p:blipFill>
        <p:spPr>
          <a:xfrm>
            <a:off x="0" y="0"/>
            <a:ext cx="2057400" cy="1998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22EA-B590-41DD-B144-EC66A02EC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odi.org.uk/images/template/newsletter/logo.gif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302000" y="1143000"/>
            <a:ext cx="48420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Medium-Roman"/>
              </a:rPr>
              <a:t>Presentation 5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pic>
        <p:nvPicPr>
          <p:cNvPr id="132" name="Picture 1" descr="ITC-logo-English-CMYK"/>
          <p:cNvPicPr/>
          <p:nvPr/>
        </p:nvPicPr>
        <p:blipFill>
          <a:blip r:embed="rId1"/>
          <a:stretch/>
        </p:blipFill>
        <p:spPr>
          <a:xfrm>
            <a:off x="3714840" y="2571840"/>
            <a:ext cx="53467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4"/>
          <p:cNvGrpSpPr/>
          <p:nvPr/>
        </p:nvGrpSpPr>
        <p:grpSpPr>
          <a:xfrm>
            <a:off x="0" y="0"/>
            <a:ext cx="9144000" cy="4724280"/>
            <a:chOff x="0" y="0"/>
            <a:chExt cx="9144000" cy="472428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914400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14" descr="See full size image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42848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" descr="C:\Users\ACOQCQ40523TU\Desktop\Picture2.png"/>
            <p:cNvPicPr/>
            <p:nvPr/>
          </p:nvPicPr>
          <p:blipFill>
            <a:blip r:embed="rId4"/>
            <a:stretch/>
          </p:blipFill>
          <p:spPr>
            <a:xfrm>
              <a:off x="5910480" y="0"/>
              <a:ext cx="3233520" cy="119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1276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etaMedium-Roman"/>
              </a:rPr>
              <a:t>Step 3 continued: Upgrading – How the Poor Can Participate</a:t>
            </a:r>
            <a:endParaRPr b="0" lang="en-US" sz="40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858000" y="578016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apted by                Dr Trevor Sofield Professor of Tourism University of Tas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C:\Users\ACOQCQ40523TU\Desktop\Documents\Pictures\jpeg PNG Buna\Welcome dance Buna.jpg"/>
          <p:cNvPicPr/>
          <p:nvPr/>
        </p:nvPicPr>
        <p:blipFill>
          <a:blip r:embed="rId5"/>
          <a:stretch/>
        </p:blipFill>
        <p:spPr>
          <a:xfrm>
            <a:off x="1811160" y="3213000"/>
            <a:ext cx="4416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71680" y="928800"/>
          <a:ext cx="7858080" cy="5678280"/>
        </p:xfrm>
        <a:graphic>
          <a:graphicData uri="http://schemas.openxmlformats.org/drawingml/2006/table">
            <a:tbl>
              <a:tblPr/>
              <a:tblGrid>
                <a:gridCol w="1049040"/>
                <a:gridCol w="522360"/>
                <a:gridCol w="3071880"/>
                <a:gridCol w="3214800"/>
              </a:tblGrid>
              <a:tr h="21024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Ph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St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What to d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Wh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</a:tr>
              <a:tr h="420120">
                <a:tc rowSpan="5"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1: Diagn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define the destination, target group of poor, and the projec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Map the big picture: enterprises and other actors in the tourism sector, links between them, demand and supply data, and the pertinent con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organise a chaotic reality, understand the overall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Map where the poor particip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avoid erroneous assumptions about poor 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take account of the less visible supp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Conduct fieldwork interviews in each node of the chain, with tourists and service prov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provide data and insights for Steps 5 to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rack revenue flows and pro-poor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Estimate how expenditure flows through the chain and how much accrues to the po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Consider their returns and factors that enable or inhibit earn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follow the dollar through the chain down to the poor, and how assess how returns can be incre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rowSpan="3"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2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Identify 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MetaNormal-Italic"/>
                          <a:ea typeface="Times New Roman"/>
                        </a:rPr>
                        <a:t>where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in the tourism value chain to seek change: which node or nod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use Steps 1 to 5 to select areas ripe for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focus Steps 6 to 8 down to specific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Analyse blockages, options, and partners in the nodes selected, to generate a long list of possible interven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think laterally and rationally in generating the range of possible 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ioritise projects on the basis of their impact and fea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generate a project shortlist, comprising projects most likely to deliver imp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3: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oject plann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How to package selected projects for fun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3143160" y="21420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857160" y="2214720"/>
            <a:ext cx="8286840" cy="92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28584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he poor can upgrade their position in the tourism value chain: theory to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2714760"/>
                <a:gridCol w="4094280"/>
                <a:gridCol w="1112760"/>
                <a:gridCol w="793800"/>
              </a:tblGrid>
              <a:tr h="122724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ype of pro-poor VC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om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rings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oor 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036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 Expansion of demand for products and services of the p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urism growth in Solomon Islands and Tonga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re income for current seasonal hotel workers, craft sellers, food sellers an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pportunities for new poor to enter the ch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Product upgrade by poor 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ok Islands craft producer training improved product and increased income; Fiji farmers grow food demanded by foreign  investment res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 Functional upgrade by poor participants (or new entra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ji and Vanuatu: fishers take tourists on boat excursions; guides in PNG upgrade to ground handling enterprise 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97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Contractualisation to enhance the terms of current eng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orizontally (among produc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ertically (e.g. with a hot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NG: Kokoda Track porters formed trade association to promote their interests; farmers group to increase negotiating power with hotel buy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l countries: tendering by smallholders with hotels for agricultural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14200" y="0"/>
          <a:ext cx="8786880" cy="6721560"/>
        </p:xfrm>
        <a:graphic>
          <a:graphicData uri="http://schemas.openxmlformats.org/drawingml/2006/table">
            <a:tbl>
              <a:tblPr/>
              <a:tblGrid>
                <a:gridCol w="2737080"/>
                <a:gridCol w="4359240"/>
                <a:gridCol w="890640"/>
                <a:gridCol w="799920"/>
              </a:tblGrid>
              <a:tr h="1531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ype of pro-poor VC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om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rings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oor 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8385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Entry of new participants into the chain due 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duced barriers to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vestment in human capacity of the poor to meet requir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otels in Solomons change procurement practices and offer material support to establish chicken farming initi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-house training in Fijian hotels; very high % of local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Exit or diversification from tourism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moan craft producers export in addition to selling to visitors, reducing their dependence on the tourism 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41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, Enhanced links between the value chain and host soc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tter access to infrastructure an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vestment in human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tronger local instit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laboration on resource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jiann road and water infrastructure around tourism developments benefit far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ok Islands, Tonga, Samoa -  tourism encourages return of diaspora to invest and less emi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missions/boards set up or strengthened to govern tourism development (all countr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munity revenues from visitor fees from forests and islands in Solomons archipel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neficiaries go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yo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those who are economically active in tourism, to include a wide range of local resid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14360" y="213840"/>
            <a:ext cx="6686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MetaMedium-Roman"/>
              </a:rPr>
              <a:t>Generic typology of value chain actor upgrading strategies</a:t>
            </a:r>
            <a:endParaRPr b="0" lang="en-US" sz="2800" spc="-1" strike="noStrike">
              <a:solidFill>
                <a:srgbClr val="000000"/>
              </a:solidFill>
              <a:latin typeface="MetaMedium-Roman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0" y="0"/>
            <a:ext cx="2071800" cy="2071800"/>
            <a:chOff x="0" y="0"/>
            <a:chExt cx="2071800" cy="2071800"/>
          </a:xfrm>
        </p:grpSpPr>
        <p:sp>
          <p:nvSpPr>
            <p:cNvPr id="151" name="Rectangle 249"/>
            <p:cNvSpPr/>
            <p:nvPr/>
          </p:nvSpPr>
          <p:spPr>
            <a:xfrm>
              <a:off x="0" y="0"/>
              <a:ext cx="2071800" cy="20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8"/>
            <p:cNvGrpSpPr/>
            <p:nvPr/>
          </p:nvGrpSpPr>
          <p:grpSpPr>
            <a:xfrm>
              <a:off x="0" y="0"/>
              <a:ext cx="2000520" cy="809280"/>
              <a:chOff x="0" y="0"/>
              <a:chExt cx="2000520" cy="809280"/>
            </a:xfrm>
          </p:grpSpPr>
          <p:pic>
            <p:nvPicPr>
              <p:cNvPr id="15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943640" cy="80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Box 7"/>
              <p:cNvSpPr/>
              <p:nvPr/>
            </p:nvSpPr>
            <p:spPr>
              <a:xfrm>
                <a:off x="785880" y="71280"/>
                <a:ext cx="1214640" cy="73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400" spc="-1" strike="noStrike">
                    <a:solidFill>
                      <a:srgbClr val="000000"/>
                    </a:solidFill>
                    <a:latin typeface="Arial"/>
                  </a:rPr>
                  <a:t>International Trade     Cent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"/>
          <p:cNvSpPr txBox="1"/>
          <p:nvPr/>
        </p:nvSpPr>
        <p:spPr>
          <a:xfrm>
            <a:off x="914400" y="19285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Volume upgrading: e.g. Fruit/craft/occupancy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Process upgrading: e.g. better intra/inter node coordination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Product upgrading: better quality service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Functional upgrading: take on new functions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Horizontal contractualisation: association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Vertical contractualisation: formalisation of transactions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+ acting on enabling environment (not upgrading strategy but strongly linked)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0:51:23Z</dcterms:created>
  <dc:creator>Internal Administrator</dc:creator>
  <dc:description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dc:description>
  <dc:language>en-US</dc:language>
  <cp:lastModifiedBy>Internal Administrator</cp:lastModifiedBy>
  <cp:lastPrinted>2006-04-07T10:19:46Z</cp:lastPrinted>
  <dcterms:modified xsi:type="dcterms:W3CDTF">2010-09-26T08:25:42Z</dcterms:modified>
  <cp:revision>0</cp:revision>
  <dc:subject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dc:subject>
  <dc:title>08 Value Chain Analysis Step 3 (cont.): Where the Poor Particip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">
    <vt:lpwstr>0</vt:lpwstr>
  </property>
  <property fmtid="{D5CDD505-2E9C-101B-9397-08002B2CF9AE}" pid="3" name="Audience">
    <vt:lpwstr>1</vt:lpwstr>
  </property>
  <property fmtid="{D5CDD505-2E9C-101B-9397-08002B2CF9AE}" pid="4" name="Category 2">
    <vt:lpwstr>General</vt:lpwstr>
  </property>
  <property fmtid="{D5CDD505-2E9C-101B-9397-08002B2CF9AE}" pid="5" name="Category0">
    <vt:lpwstr>Outputs</vt:lpwstr>
  </property>
  <property fmtid="{D5CDD505-2E9C-101B-9397-08002B2CF9AE}" pid="6" name="ContentTypeId">
    <vt:lpwstr>0x0101002BE810F658B38D4B8DA2B842D4DE314B</vt:lpwstr>
  </property>
  <property fmtid="{D5CDD505-2E9C-101B-9397-08002B2CF9AE}" pid="7" name="Country">
    <vt:lpwstr>(none)</vt:lpwstr>
  </property>
  <property fmtid="{D5CDD505-2E9C-101B-9397-08002B2CF9AE}" pid="8" name="Description0">
    <vt:lpwstr>Powerpoint template for staff</vt:lpwstr>
  </property>
  <property fmtid="{D5CDD505-2E9C-101B-9397-08002B2CF9AE}" pid="9" name="EktAddress">
    <vt:lpwstr/>
  </property>
  <property fmtid="{D5CDD505-2E9C-101B-9397-08002B2CF9AE}" pid="10" name="EktCmsPath">
    <vt:lpwstr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vt:lpwstr>
  </property>
  <property fmtid="{D5CDD505-2E9C-101B-9397-08002B2CF9AE}" pid="11" name="EktCmsSize">
    <vt:r8>887296</vt:r8>
  </property>
  <property fmtid="{D5CDD505-2E9C-101B-9397-08002B2CF9AE}" pid="12" name="EktContentLanguage">
    <vt:r8>2057</vt:r8>
  </property>
  <property fmtid="{D5CDD505-2E9C-101B-9397-08002B2CF9AE}" pid="13" name="EktContentSubType">
    <vt:r8>0</vt:r8>
  </property>
  <property fmtid="{D5CDD505-2E9C-101B-9397-08002B2CF9AE}" pid="14" name="EktContentType">
    <vt:r8>101</vt:r8>
  </property>
  <property fmtid="{D5CDD505-2E9C-101B-9397-08002B2CF9AE}" pid="15" name="EktDateCreated">
    <vt:filetime>2011-03-08T12:06:29Z</vt:filetime>
  </property>
  <property fmtid="{D5CDD505-2E9C-101B-9397-08002B2CF9AE}" pid="16" name="EktDateModified">
    <vt:filetime>2011-12-20T07:12:13Z</vt:filetime>
  </property>
  <property fmtid="{D5CDD505-2E9C-101B-9397-08002B2CF9AE}" pid="17" name="EktDisabledTaxCategory">
    <vt:lpwstr/>
  </property>
  <property fmtid="{D5CDD505-2E9C-101B-9397-08002B2CF9AE}" pid="18" name="EktEDescription">
    <vt:lpwstr>Summary 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vt:lpwstr>
  </property>
  <property fmtid="{D5CDD505-2E9C-101B-9397-08002B2CF9AE}" pid="19" name="EktEventTopic">
    <vt:lpwstr/>
  </property>
  <property fmtid="{D5CDD505-2E9C-101B-9397-08002B2CF9AE}" pid="20" name="EktEventWebsite">
    <vt:lpwstr/>
  </property>
  <property fmtid="{D5CDD505-2E9C-101B-9397-08002B2CF9AE}" pid="21" name="EktExpiryType">
    <vt:r8>1</vt:r8>
  </property>
  <property fmtid="{D5CDD505-2E9C-101B-9397-08002B2CF9AE}" pid="22" name="EktFolderName">
    <vt:lpwstr/>
  </property>
  <property fmtid="{D5CDD505-2E9C-101B-9397-08002B2CF9AE}" pid="23" name="EktIsTranslated">
    <vt:bool>1</vt:bool>
  </property>
  <property fmtid="{D5CDD505-2E9C-101B-9397-08002B2CF9AE}" pid="24" name="EktQuickLink">
    <vt:lpwstr>://www.intracen.org/DownloadAsset.aspx?id=32431</vt:lpwstr>
  </property>
  <property fmtid="{D5CDD505-2E9C-101B-9397-08002B2CF9AE}" pid="25" name="EktRegistrationLink">
    <vt:lpwstr/>
  </property>
  <property fmtid="{D5CDD505-2E9C-101B-9397-08002B2CF9AE}" pid="26" name="EktSearchable">
    <vt:r8>1</vt:r8>
  </property>
  <property fmtid="{D5CDD505-2E9C-101B-9397-08002B2CF9AE}" pid="27" name="EktSourceUrl">
    <vt:lpwstr/>
  </property>
  <property fmtid="{D5CDD505-2E9C-101B-9397-08002B2CF9AE}" pid="28" name="EktTaxCategory">
    <vt:lpwstr/>
  </property>
  <property fmtid="{D5CDD505-2E9C-101B-9397-08002B2CF9AE}" pid="29" name="Key">
    <vt:lpwstr>0</vt:lpwstr>
  </property>
  <property fmtid="{D5CDD505-2E9C-101B-9397-08002B2CF9AE}" pid="30" name="Source">
    <vt:lpwstr>Staff</vt:lpwstr>
  </property>
  <property fmtid="{D5CDD505-2E9C-101B-9397-08002B2CF9AE}" pid="31" name="Status">
    <vt:lpwstr>Final</vt:lpwstr>
  </property>
  <property fmtid="{D5CDD505-2E9C-101B-9397-08002B2CF9AE}" pid="32" name="Theme">
    <vt:lpwstr/>
  </property>
  <property fmtid="{D5CDD505-2E9C-101B-9397-08002B2CF9AE}" pid="33" name="World Region">
    <vt:lpwstr>(none)</vt:lpwstr>
  </property>
  <property fmtid="{D5CDD505-2E9C-101B-9397-08002B2CF9AE}" pid="34" name="ekttaxonomyenabled">
    <vt:r8>1</vt:r8>
  </property>
</Properties>
</file>